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C7A-7EC8-46A8-A142-983D6F9E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0E4-63AB-4920-A078-3DED1ECB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A169-3D22-4D83-A486-5D980058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9AC9-9A14-458D-9E38-20D7CD06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5C4C-336E-4363-A703-4FD01AB9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E9A5-A2D5-498A-917E-2B82FB02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1C7E-782D-4A66-99F9-2A435DD0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0AC1-1992-421F-9674-1BEDA6C9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FA68-C945-43AE-946E-AA73F767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522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24C4-4AF0-4133-B834-6DA774B6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5E89-06F1-40AB-8A3E-0BD4873F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F63-2121-4274-8744-20947449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EDE6-5381-4683-AFE7-0A1DA301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A8C7-31CE-4405-8833-8931ED3C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22DD-FE2D-46D8-A503-0D4036FE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B4F7-1284-4D90-8831-10183903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AE77-C450-48FF-8F3C-F4391ABD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AF4E-2194-480B-9FEC-DB9C58CE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BA1-9F77-4168-AA40-3B545017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D52-D5C4-4A22-8942-1CB551EB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522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E91-DB7D-44F6-886C-A92C9105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ADE-FE5B-43DD-8203-D0E00AA0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01F2-0569-46B5-9925-F5AE281D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5B2-1B44-4D30-93E0-70EEC88B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3226-086E-48E7-A65D-9A95E1807D84}" type="slidenum">
              <a:rPr b="0" lang="cs-CZ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1197-0440-4D72-A105-66BF3A35C678}" type="slidenum">
              <a:rPr b="0" lang="cs-CZ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6160" y="9882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Arial"/>
              </a:rPr>
              <a:t>         </a:t>
            </a:r>
            <a:r>
              <a:rPr b="0" lang="cs-CZ" sz="4400" spc="-1" strike="noStrike">
                <a:solidFill>
                  <a:srgbClr val="ffcc00"/>
                </a:solidFill>
                <a:latin typeface="Arial"/>
              </a:rPr>
              <a:t>Kulíšek A Očist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8" name="IMG_2949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2643480" cy="1981080"/>
          </a:xfrm>
          <a:prstGeom prst="rect">
            <a:avLst/>
          </a:prstGeom>
          <a:ln w="0">
            <a:noFill/>
          </a:ln>
        </p:spPr>
      </p:pic>
      <p:pic>
        <p:nvPicPr>
          <p:cNvPr id="89" name="IMG_2950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2643120" cy="1981080"/>
          </a:xfrm>
          <a:prstGeom prst="rect">
            <a:avLst/>
          </a:prstGeom>
          <a:ln w="0">
            <a:noFill/>
          </a:ln>
        </p:spPr>
      </p:pic>
      <p:pic>
        <p:nvPicPr>
          <p:cNvPr id="90" name="IMG_2953" descr=""/>
          <p:cNvPicPr/>
          <p:nvPr/>
        </p:nvPicPr>
        <p:blipFill>
          <a:blip r:embed="rId4"/>
          <a:stretch/>
        </p:blipFill>
        <p:spPr>
          <a:xfrm>
            <a:off x="1981080" y="3886200"/>
            <a:ext cx="2643480" cy="1981080"/>
          </a:xfrm>
          <a:prstGeom prst="rect">
            <a:avLst/>
          </a:prstGeom>
          <a:ln w="0">
            <a:noFill/>
          </a:ln>
        </p:spPr>
      </p:pic>
      <p:pic>
        <p:nvPicPr>
          <p:cNvPr id="91" name="IMG_2951" descr=""/>
          <p:cNvPicPr/>
          <p:nvPr/>
        </p:nvPicPr>
        <p:blipFill>
          <a:blip r:embed="rId5"/>
          <a:stretch/>
        </p:blipFill>
        <p:spPr>
          <a:xfrm>
            <a:off x="4648320" y="3962520"/>
            <a:ext cx="2643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9:08:54Z</dcterms:created>
  <dc:creator>PC</dc:creator>
  <dc:description/>
  <dc:language>en-US</dc:language>
  <cp:lastModifiedBy>PC</cp:lastModifiedBy>
  <dcterms:modified xsi:type="dcterms:W3CDTF">2009-02-15T21:12:37Z</dcterms:modified>
  <cp:revision>1</cp:revision>
  <dc:subject/>
  <dc:title>         Kulíšek A Očista</dc:title>
</cp:coreProperties>
</file>