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A54-9BD6-4050-B4A9-1E86A022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D52-8A22-4DE0-95E3-15EA2A8D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1A9-5B49-414F-9777-BF77F4B8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BB1-B6CC-4C3C-8E38-9944CC3A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4082-340B-4FEF-980F-B9BDCD05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1887-997C-43E4-95F3-8995CA94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0D12-36D3-496F-8D5A-EC0F52F3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7420-1E99-4319-B98A-2D6A51C9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0BD7-DA12-4938-A67A-EDCECBC7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1C0A-69EE-4657-8DBA-27999637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FEDC-32A3-46DE-A86C-E487B5C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B67-5217-4105-AC45-3CFD5A7B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A4A0-3D9F-438A-8C95-FDD8BB36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76A0-AAED-4540-BDED-2453E656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66CA-65B0-4B91-945B-4538FD17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A5F5-CB07-47E9-867F-0B97FC37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6EDD-C741-4CE6-846E-AB02D33A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E4D-DEB9-4E0C-ADCC-44B6C914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D40-B2F2-452D-9B46-8583BD1B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ADB-22EC-4F0B-867A-FB51B0C8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59F-1E89-466E-8470-D6BEBF51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EE5-0B98-42AE-8DF1-7850CE5E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D11-D129-4CF9-B3B6-A28ADC7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E75-234E-4B35-8EB5-39BA853E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7DF2-D4FB-4C1F-878D-7624C889CF8E}" type="slidenum">
              <a:rPr b="0" lang="cs-CZ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2C3D-E5AA-4A97-91CA-B26110DA73E4}" type="slidenum">
              <a:rPr b="0" lang="cs-CZ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6160" y="9882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Kulíšek A Očist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IMG_2949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643480" cy="1981080"/>
          </a:xfrm>
          <a:prstGeom prst="rect">
            <a:avLst/>
          </a:prstGeom>
          <a:ln w="0">
            <a:noFill/>
          </a:ln>
        </p:spPr>
      </p:pic>
      <p:pic>
        <p:nvPicPr>
          <p:cNvPr id="89" name="IMG_2950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264312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IMG_2953" descr=""/>
          <p:cNvPicPr/>
          <p:nvPr/>
        </p:nvPicPr>
        <p:blipFill>
          <a:blip r:embed="rId4"/>
          <a:stretch/>
        </p:blipFill>
        <p:spPr>
          <a:xfrm>
            <a:off x="1981080" y="3886200"/>
            <a:ext cx="26434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IMG_2951" descr=""/>
          <p:cNvPicPr/>
          <p:nvPr/>
        </p:nvPicPr>
        <p:blipFill>
          <a:blip r:embed="rId5"/>
          <a:stretch/>
        </p:blipFill>
        <p:spPr>
          <a:xfrm>
            <a:off x="4648320" y="3962520"/>
            <a:ext cx="264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9:08:54Z</dcterms:created>
  <dc:creator>PC</dc:creator>
  <dc:description/>
  <dc:language>en-US</dc:language>
  <cp:lastModifiedBy>PC</cp:lastModifiedBy>
  <dcterms:modified xsi:type="dcterms:W3CDTF">2009-02-15T21:12:37Z</dcterms:modified>
  <cp:revision>1</cp:revision>
  <dc:subject/>
  <dc:title>         Kulíšek A Očista</dc:title>
</cp:coreProperties>
</file>